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0373-1466-49A4-9386-A122E7DBD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F79D-BBD8-4625-821A-368E98FE3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4D9DA-92F9-4F9D-B3A6-3FFD82A09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91F8-7B47-4265-B4A0-9EC90EC12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515E-B4A5-4688-A2D5-C46C93177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76D0C-2C64-42CC-B8B3-33369C169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4B91-E09C-4837-AF8B-D5A9C609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76091-21C0-4939-9835-680E1BAB1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D73F-240E-46B6-B0D9-439A92C1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E2BB-987D-44F6-A537-127EB389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C977D-7BFF-4F58-BA2A-0BD79045C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AC8-0978-4956-80D5-BF54332B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97E4A-AAEA-44E4-AED4-B1F4D6F7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6098B-4FCB-4683-B781-38F9CC9C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E0D71-122E-40CC-80DD-432B4006C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C26A-C29F-44BC-9CAB-290775A8C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49B37-384A-4BA7-AEE2-2EE28ED2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E6F60-7E32-474B-A7BF-5773D47A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780C3-447D-49E2-99BA-210635F0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D823B-612A-44B7-AE7A-5D1E2CA88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CA273-0C38-4D71-AC75-35B302A6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17CF3-A13D-4094-BCD2-9B837075F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E7DE-4B57-4AE8-9D62-334E4AE7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61F9B9-7297-4EE5-B886-8D0DDF8E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B1272-3449-4B56-9650-E86DF095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F613A-BDD3-4A8E-B06B-BB442C5F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2F0CE3-BF9E-486A-B219-1B89C155C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09B0DB-C21E-4CD8-A837-15561725C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343FCC-8A8D-4DA7-B307-A726A126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9BA1B-BCDC-494D-902E-8A1FB868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63AC9-6D15-4BC6-A8A8-048EE3907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B37D7-8577-4CA2-8F66-C3B51F5C9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98B42C-9592-46C0-BF8A-D506B37DE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441E-4857-486B-94D1-36813AA3D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BE621-397C-41DE-A0A7-5FEBA7AA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8E2FE-6900-4906-99FA-19F6235DD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4148C-A97A-446F-A7A8-6E6FA943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46E98-3A75-4FB6-805F-75242AA5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CCC70-E391-42C1-9FCF-82C1BF3E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08849-DDE1-4441-82E6-524636630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E49EC-4176-4927-80F1-AFE03778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5B2A7B-87ED-4E5F-B418-A2C6445FE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C3507-C835-46B7-B514-1DF9B9E8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F661A0-37A8-44E3-9CC4-EC26E4D75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2416-472F-4687-914E-3A51B3C2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3C6D5-0AEF-433C-BD7F-FF7ACE9E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AC9749-852D-4E6E-BB01-45B9AD3BB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3B5DC-1A56-4CEC-AA20-F4C8FE2F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8E769-3D55-4BDF-AF23-0BBFC4CE9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010BAD-C239-423B-919E-9054A5E2F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A2FF95-63E0-44B0-9DFB-66EA54D71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6A2FA-F20F-447B-A47A-C0B759B4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A414D-1B13-4D40-87F8-59A7FDAA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C9BC75-8F8B-4AA9-ACE7-858EC400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EDDE9-361C-4991-93C5-2EC4CAF1D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477B-E6E9-4931-AEF3-D16D196C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6CF7C-B935-4FD7-8A85-3677E14C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9802B-308E-45D3-8019-2D08F0362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BEFA38-43CE-480F-A52C-7F0EFC17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C2AF7-1474-453A-A731-18B8F2C9D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382E2E-DD8E-4E5B-BE5D-606D7A569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EE959-467B-4F2F-A01E-ADCF9F5BE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38D1E-2280-46B3-A23B-C38E9ABD3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FF4640-93EC-4E23-919B-E525F2F4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3A80A0-17F7-450E-84AE-CA9D9A3C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D841F-0491-4E3E-A51A-AA601337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96C8-8C24-469E-9B32-31A67A302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597A3D-5315-4B8A-BCE8-BDCBCFB86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713CC8-F35B-45A8-805F-52D8C221A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CC940-F1EE-4315-886F-17ABB4CFC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E8EF64-892D-47E3-AE8E-BF7A867D1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9F017C-AD95-4F39-8240-3D443C03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EE5CFB-8410-4828-8ABD-CE2A4157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9B1BB2-B323-4DB1-ABF0-1DE6C88B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625AA3-AA3B-4ABB-B6B7-FFD22FEE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F13A53-BB8E-4FE3-8D61-D395C279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8C1E3-D078-4276-9C8D-701F8F583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1D6-CF70-44A9-AB29-5466121F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3F86E-D17A-4210-9690-F8209AB3B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60E00-5D06-4021-98ED-5779F683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77C75-4656-4DB3-A74D-878152FBD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3B1ECE-AB3A-45FB-B8B6-1A79AA245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1A8227-2478-4EE2-9A92-D81A1409F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050086-AFEA-4E70-B51B-E9C915958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6D769-B64B-447A-A96E-43F25551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A5F79-AF7F-43BE-913A-612C12E8D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71DE4E-0145-4263-8903-E60F4A22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DA6F3-5AE4-4C6D-9645-CEDB3BB19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992C-3872-4F3C-B6F9-35F1472F2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E93AB1-9B5B-4BFD-B0E4-22D789C7B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8B5B21-5692-4B08-A851-3D76B8D91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2214D9-F980-42D5-AF1D-35739E2E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98D06-F022-407B-B845-2DF5F6505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3EE23-62A7-4378-93B0-287D0F471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1BC04-A61B-401B-9D96-174563CAC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FCD68B-1848-4059-9702-1006777EB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F842-F3DF-4DBF-AB7A-4E42912EB702}" type="slidenum">
              <a:rPr b="1" lang="en-US" sz="1200" spc="-1" strike="noStrike">
                <a:solidFill>
                  <a:srgbClr val="afaf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A06A0-B656-45E0-8281-634C7FA572C7}" type="slidenum">
              <a:rPr b="1" lang="en-US" sz="1200" spc="-1" strike="noStrike">
                <a:solidFill>
                  <a:srgbClr val="afaf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18F1-2123-4D91-89BF-72FED39250EE}" type="slidenum">
              <a:rPr b="1" lang="en-US" sz="1200" spc="-1" strike="noStrike">
                <a:solidFill>
                  <a:srgbClr val="afaf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BEAD-9890-4AFE-AB2A-F511A95F1146}" type="slidenum">
              <a:rPr b="1" lang="en-US" sz="1200" spc="-1" strike="noStrike">
                <a:solidFill>
                  <a:srgbClr val="afaf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531B-8D14-4960-B91B-E7A66E15BCED}" type="slidenum">
              <a:rPr b="1" lang="en-US" sz="1200" spc="-1" strike="noStrike">
                <a:solidFill>
                  <a:srgbClr val="afaf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2F5C5-5BC4-44E5-93E0-510226493E36}" type="slidenum">
              <a:rPr b="1" lang="en-US" sz="1200" spc="-1" strike="noStrike">
                <a:solidFill>
                  <a:srgbClr val="afaf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B05F2-A35D-4DA9-BEB9-EC8733C52083}" type="slidenum">
              <a:rPr b="1" lang="en-US" sz="1200" spc="-1" strike="noStrike">
                <a:solidFill>
                  <a:srgbClr val="afaf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7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d1282e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afafa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fafa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FE2A1-45E4-4A8E-962A-EDE3FEC361E5}" type="slidenum">
              <a:rPr b="1" lang="en-US" sz="1200" spc="-1" strike="noStrike">
                <a:solidFill>
                  <a:srgbClr val="afafa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5.2 2</a:t>
            </a:r>
            <a:r>
              <a:rPr b="0" lang="en-US" sz="3600" spc="-1" strike="noStrike" baseline="30000">
                <a:solidFill>
                  <a:srgbClr val="000000"/>
                </a:solidFill>
                <a:latin typeface="Garamond"/>
              </a:rPr>
              <a:t>ND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 YR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Garamond"/>
              </a:rPr>
              <a:t>El presente progresivo/deber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 am ordering. (3pts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 estoy pidiendo.  (e-i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Ángel y Antonio are serving. 3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llos están sirviend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 am helping you. 4p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 estoy ayudándote/te estoy ayudand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8820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e are shaving ourselves. 4p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8820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8820036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osotros estamos afeitándonos/nos estamos afeitand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" dur="500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u s/fam are getting up. 4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ú estás levantándote/te estás levantand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00"/>
                                        <p:tgtEl>
                                          <p:spTgt spid="3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indent="622591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y are reading. (3pts.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622591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622591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llos están leyendo.  (y=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622591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hat are 3 other verbs that take a ‘y’?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6225912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ír, creer, traer (What do they mean?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DEBER &amp; INFINITIVE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 ought to listen. (3 pts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 debo escuchar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3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e ought to go. 3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Él debe ir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u pl/fam ought to look for me. 4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Vosotros debéis buscarme/me debéis busc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 ought to go to bed. 4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 debo acostarme/me debo acost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aramond"/>
              </a:rPr>
              <a:t>EACH CORRECT WORD= 1PT</a:t>
            </a: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he is walking 3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lla está andando/caminand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y ought to shower themselves. 4p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llos deben ducharse/se deben ducha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93388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u pl/form ought to learn them (the verbs). 4p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93388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933886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ds. deben aprenderlos/los deben aprend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y ought to leave. 3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llos deben salir/irs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u s/fam ought to believe me. (4 pts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ú debes creerme/me debes creer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3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u pl/form ought to give me…. 4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ds. deben darme/me deben dar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u s/fam ought to see it. (m.) 4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ú debes verlo/lo debes ver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We ought to finish…. 3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osotros debemos terminar…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na y yo are talking. 3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osotros estamos habland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Javier y tú are practicing. 3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Vosotros estáis practicand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" dur="500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95464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Olivia y Ud. Are waking up.  4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95464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95464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ds. están despertándose/se están despertand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Hugo is helping me. 4pts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Él está ayudándome/me está ayudando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Lupe and I are working.  3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osotros estamos trabajando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102727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randma is writing me. 4pts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2727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1027274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Ella está escribiéndome/me está escribiendo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indent="74710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You s/fam are sleeping. 3pts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74710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74710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ú estás durmiendo. 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indent="747108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pat yourself on the back if you got the o-u)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3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7T15:32:25Z</dcterms:created>
  <dc:creator>Coffman, Kristie</dc:creator>
  <dc:description/>
  <dc:language>en-US</dc:language>
  <cp:lastModifiedBy>Prine, Stephanie</cp:lastModifiedBy>
  <dcterms:modified xsi:type="dcterms:W3CDTF">2012-11-09T20:21:56Z</dcterms:modified>
  <cp:revision>9</cp:revision>
  <dc:subject/>
  <dc:title>5.2 2nd yr</dc:title>
</cp:coreProperties>
</file>